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5809-3F01-424B-9FD7-A962668F99EA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onus Slid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Streams; Exceptions; Inheri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9.3, 6.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aling with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9080" indent="-19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 objects have these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9080" indent="-19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asonable ways to handle an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-240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again;  re-prompt user;  print a nice error messag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it the program;  do nothing (!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280" y="1828800"/>
          <a:ext cx="8915400" cy="3112920"/>
        </p:xfrm>
        <a:graphic>
          <a:graphicData uri="http://schemas.openxmlformats.org/drawingml/2006/table">
            <a:tbl>
              <a:tblPr/>
              <a:tblGrid>
                <a:gridCol w="5061240"/>
                <a:gridCol w="3854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getMessag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escribing the 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stack trace of the line numbers where error occur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putStream open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s a stream for reading data from the document at this U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Cau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tack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StackT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s extend from a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320" y="1982880"/>
            <a:ext cx="89913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tch a general exception to handle any sub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ly, you can state that a method throws any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foo()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hrows 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there any disadvantages of doing s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 and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als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, which represent serious Java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common super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tch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but you probably shouldn'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0360" y="2752560"/>
            <a:ext cx="89632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ding from the web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net.UR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presents a web page's UR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connect to a URL and read data from that web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280" y="2286000"/>
          <a:ext cx="8915400" cy="3058920"/>
        </p:xfrm>
        <a:graphic>
          <a:graphicData uri="http://schemas.openxmlformats.org/drawingml/2006/table">
            <a:tbl>
              <a:tblPr/>
              <a:tblGrid>
                <a:gridCol w="5060880"/>
                <a:gridCol w="385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/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URL(String addres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MalformedURL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s a URL object representing the given 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getFile(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Host(), getPath(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Protocol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t getPor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various parts of the URL as strings/integ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putStream open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s a stream for reading data from the document at this U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following behavi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wnloader(String ur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lizes the downloader to examine the given UR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download(String target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loads the file from the URL to the given file name on d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lient progra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RL to download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foo b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Bad URL! Try ag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http://zombo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rget file name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out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nt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.htm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ZOMBO&lt;/titl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er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URL url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onstructs downloader to read from the given UR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wnloader(String urlString) throws MalformedURL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 = new URL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ads downloader's URL and writes contents to the given fi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download(String targetFileName) throws IO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Stream in = url.openStrea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OutputStream out = new FileOutputStream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in.read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== -1) {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-1 means end-of-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.write(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URL to download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 down = null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reate a downloade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down == null) {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-prompt the user if this fai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 = new Downloader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MalformedURL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Bad URL! Try again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arget file name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targetFileName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download bytes to file (print error if it fail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.download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/O error: " + e.getMessage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llyDownloa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add behavio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TallyDownloader(String ur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download(String target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loads the file, and also prints the file to the console, and prints the number of occurrences of each kind of character in the fi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 to download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http://zombo.com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title&gt;ZOMBO&lt;/titl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!--Please Visit 15footstick.com our other website. ThankZ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21,  =42, !=1, "=18, #=4, %=4, ,=3, -=14, .=10, /=18, 0=15, 1=9, 2=2, 3=1, 4=5, 5=5, 6=4, 7=1, 8=3, 9=2, :=3, ;=1, &lt;=17, ==24, &gt;=17, ?=1, A=1, B=3, C=2, D=3, E=2, F=19, M=1, O=2, P=3, S=1, T=2, V=2, Z=2, _=2, a=42, b=13, c=27, d=18, e=47, f=7, g=10, h=28, i=32, j=2, k=5, l=24, m=21, n=17, o=36, p=12, q=3, r=17, s=24, t=37, u=8, v=10, w=15, x=5, y=6, z=2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ming new classes based on existing 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/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use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arent clas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ild class that inherits behavior from super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s-a relationshi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ach object of the subclass also "is a(n)" object of the superclass and can be treated as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employee_manuals"/>
          <p:cNvPicPr/>
          <p:nvPr/>
        </p:nvPicPr>
        <p:blipFill>
          <a:blip r:embed="rId1"/>
          <a:stretch/>
        </p:blipFill>
        <p:spPr>
          <a:xfrm>
            <a:off x="2819520" y="4641840"/>
            <a:ext cx="35049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and out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traction of a source or target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-bit bytes flow to (output) and from (input) strea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represent many data sour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es on hard dis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computer on network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b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device (keyboard, mouse, etc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1606" t="4283" r="8740" b="16503"/>
          <a:stretch/>
        </p:blipFill>
        <p:spPr>
          <a:xfrm>
            <a:off x="5929200" y="2744640"/>
            <a:ext cx="2986200" cy="197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1280" t="5215" r="5774" b="5215"/>
          <a:stretch/>
        </p:blipFill>
        <p:spPr>
          <a:xfrm>
            <a:off x="5638680" y="5221440"/>
            <a:ext cx="35053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extends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awyer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place a superclass's method by writing a new version of that method in a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verrides getSalary method in Employee clas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5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up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inherited methods/constructor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now always make $5K more than Employe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TallyDownloader extends Downloader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TallyDownloader(String url) throws MalformedURL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url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all Downloader construc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ads from URL and prints file contents and tally of each ch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download(String targetFileName) throws IO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download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p&lt;Character, Integer&gt; counts =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w TreeMap&lt;Character, Integer&gt;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InputStream in = new FileInputStream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in.read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== -1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ch = (char) n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unts.containsKey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s.put(ch, counts.get(ch)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s.put(ch,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c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ounts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print map of char -&gt; in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URL to download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 down = null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reate a tallying downloade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down == null) {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-prompt the user if this fai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 = new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all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MalformedURL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Bad URL! Try again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input streams extend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utput streams extend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uarantees that all sources of data have the same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vides minimal ability to read/write one byte at a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3197160"/>
            <a:ext cx="73580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n input 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various objects also have methods to get streams to read the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ommon to all input strea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6320" y="4824360"/>
          <a:ext cx="8991360" cy="1550880"/>
        </p:xfrm>
        <a:graphic>
          <a:graphicData uri="http://schemas.openxmlformats.org/drawingml/2006/table">
            <a:tbl>
              <a:tblPr/>
              <a:tblGrid>
                <a:gridCol w="6184800"/>
                <a:gridCol w="2806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a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/returns a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-1 if no bytes rema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s rea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76320" y="1828800"/>
          <a:ext cx="8991360" cy="1581120"/>
        </p:xfrm>
        <a:graphic>
          <a:graphicData uri="http://schemas.openxmlformats.org/drawingml/2006/table">
            <a:tbl>
              <a:tblPr/>
              <a:tblGrid>
                <a:gridCol w="8991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FileInputStream(String name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yteArrayInputStream(byte[] byt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equenceInputStream(InputStream a, InputStream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n output 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ommon to all output strea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320" y="4392720"/>
          <a:ext cx="8991360" cy="2200320"/>
        </p:xfrm>
        <a:graphic>
          <a:graphicData uri="http://schemas.openxmlformats.org/drawingml/2006/table">
            <a:tbl>
              <a:tblPr/>
              <a:tblGrid>
                <a:gridCol w="6451560"/>
                <a:gridCol w="253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b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rites a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s writ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also flush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flush(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ces any writes in buffers to be 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6320" y="1828800"/>
          <a:ext cx="8991360" cy="1825560"/>
        </p:xfrm>
        <a:graphic>
          <a:graphicData uri="http://schemas.openxmlformats.org/drawingml/2006/table">
            <a:tbl>
              <a:tblPr/>
              <a:tblGrid>
                <a:gridCol w="8991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FileOutputStream(String name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yteArrayOutput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PrintStream(File fi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PrintStream(String fileNam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work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byte) at a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ext files, each byte is just an ASCII text charac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cast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s need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InputStream in = new FileInputStream("myfile.tx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in.read()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8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char ch = (char) n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'Q'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passed wher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wanted without casting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OutputStream out = new FileOutputStream("outfile.tx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h = 'Q'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ut.write(c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/O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representing an err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ecked 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that must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ed for the program to comp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I/O tasks throw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you perform I/O, you must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hr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at exception yoursel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handle)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86600" y="1254240"/>
            <a:ext cx="19051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6699"/>
                </a:solidFill>
                <a:latin typeface="Courier New"/>
              </a:rPr>
              <a:t>throws </a:t>
            </a:r>
            <a:r>
              <a:rPr b="1" lang="en-US" sz="2200" spc="-1" strike="noStrike">
                <a:solidFill>
                  <a:srgbClr val="3366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lau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Keywords on a method's header that state that it may generate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ReadFil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rows FileNotFound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I hereby announce that this method might throw an exception, and I accept the consequences if it happen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executes.  If the given exception occurs,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stops running; it jump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and runs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catch (FileNotFoundException 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34:10Z</dcterms:modified>
  <cp:revision>493</cp:revision>
  <dc:subject/>
  <dc:title>CSE 142 Python Slides</dc:title>
</cp:coreProperties>
</file>