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79AF-07A5-4AC7-9A43-6F55508D534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in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solving collisions by storing a list at each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/search/remove must traverse lists, but the lists are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ossible to "run out" of indexes, unlike with prob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676520" y="30481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343400" y="49388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572000" y="44956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43400" y="57769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4572000" y="53341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343400" y="4100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4572000" y="3657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95480" y="4100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124080" y="3657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867280" y="4100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6121440" y="3657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0" y="4100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7112160" y="3657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51460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42900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88620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87692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409720" y="35053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40080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se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or List, Linked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ll methods assume value != null;  does not rehas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shIntSe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atic final int CAPACITY = 13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List&lt;Integer&gt;[]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HashSe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(List&lt;Integer&gt;[]) (new List[CAPACITY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dds the given value to this hash set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ndex = HF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index]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ndex] = new LinkedList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ndex].add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ashing function to convert objects to index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HF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hash set cod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true if this set contains the given val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ndex = HF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elements[index] != null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ndex].contains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e se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ndex = HF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index]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ndex].remove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rowing to a larger array when the table is too fu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simply copy the old array to a new one.  (Why not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ad fa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atio of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 of elem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/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sh table leng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collections rehash when load factor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≅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use big prime numbers as hash table sizes to reduce coll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8600" y="4114800"/>
          <a:ext cx="8694720" cy="790560"/>
        </p:xfrm>
        <a:graphic>
          <a:graphicData uri="http://schemas.openxmlformats.org/drawingml/2006/table">
            <a:tbl>
              <a:tblPr/>
              <a:tblGrid>
                <a:gridCol w="385560"/>
                <a:gridCol w="385920"/>
                <a:gridCol w="385560"/>
                <a:gridCol w="414360"/>
                <a:gridCol w="425520"/>
                <a:gridCol w="426960"/>
                <a:gridCol w="425520"/>
                <a:gridCol w="412920"/>
                <a:gridCol w="414360"/>
                <a:gridCol w="41436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18012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6408720" y="4724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180120" y="6005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408720" y="5562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8596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014560" y="4724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75776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4986360" y="4724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00528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3259080" y="4724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4336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4097160" y="47862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28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9986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4558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293560" y="4572000"/>
            <a:ext cx="304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674440" y="4572000"/>
            <a:ext cx="304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5132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350960" y="4572000"/>
            <a:ext cx="304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265360" y="4572000"/>
            <a:ext cx="304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992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7136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1708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76280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0852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5424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494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easy to hash an integer I (use index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 % length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hash other types of values (such as objects)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Java objects contain the following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hash code for this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ny object to find its preferred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mplement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pends on the type of object and its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a String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dds the ASCII values of its let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write your ow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s in classes you wr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ash map is just a set where the lists store key/value pai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     key   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.put("Marty", 1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.put("Jeff",  2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.put("Kasey", 2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.put("Stef",  3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Integer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rite an inn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clas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s; the map stor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Entry&g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676520" y="35053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5105520" y="4114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58000" y="455760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7112160" y="4114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5146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9718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8862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41972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409720" y="39625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4008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875120" y="457200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 flipH="1">
            <a:off x="59436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0" y="53960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112160" y="4952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83080" y="4114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76720" y="457200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arch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a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store a BS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BST is essentially a set of integ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ions we suppor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ere are other ways to implement a set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629400" y="2209680"/>
            <a:ext cx="1981080" cy="1752480"/>
            <a:chOff x="6629400" y="2209680"/>
            <a:chExt cx="1981080" cy="1752480"/>
          </a:xfrm>
        </p:grpSpPr>
        <p:sp>
          <p:nvSpPr>
            <p:cNvPr id="86" name=""/>
            <p:cNvSpPr/>
            <p:nvPr/>
          </p:nvSpPr>
          <p:spPr>
            <a:xfrm>
              <a:off x="8294040" y="364608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6808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25480" y="3076200"/>
              <a:ext cx="31752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82840" y="307620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54520" y="257004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" name=""/>
            <p:cNvCxnSpPr>
              <a:stCxn id="90" idx="3"/>
              <a:endCxn id="89" idx="0"/>
            </p:cNvCxnSpPr>
            <p:nvPr/>
          </p:nvCxnSpPr>
          <p:spPr>
            <a:xfrm flipH="1">
              <a:off x="704160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" name=""/>
            <p:cNvCxnSpPr>
              <a:stCxn id="90" idx="5"/>
              <a:endCxn id="88" idx="0"/>
            </p:cNvCxnSpPr>
            <p:nvPr/>
          </p:nvCxnSpPr>
          <p:spPr>
            <a:xfrm>
              <a:off x="772488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" name=""/>
            <p:cNvCxnSpPr>
              <a:stCxn id="88" idx="3"/>
              <a:endCxn id="87" idx="0"/>
            </p:cNvCxnSpPr>
            <p:nvPr/>
          </p:nvCxnSpPr>
          <p:spPr>
            <a:xfrm flipH="1">
              <a:off x="7926840" y="3358440"/>
              <a:ext cx="14472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88" idx="5"/>
              <a:endCxn id="86" idx="0"/>
            </p:cNvCxnSpPr>
            <p:nvPr/>
          </p:nvCxnSpPr>
          <p:spPr>
            <a:xfrm>
              <a:off x="8296560" y="3358440"/>
              <a:ext cx="15588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7152840" y="364608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2940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"/>
            <p:cNvCxnSpPr>
              <a:stCxn id="89" idx="3"/>
              <a:endCxn id="96" idx="0"/>
            </p:cNvCxnSpPr>
            <p:nvPr/>
          </p:nvCxnSpPr>
          <p:spPr>
            <a:xfrm flipH="1">
              <a:off x="6787800" y="3361320"/>
              <a:ext cx="142200" cy="26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>
              <a:stCxn id="89" idx="5"/>
              <a:endCxn id="95" idx="0"/>
            </p:cNvCxnSpPr>
            <p:nvPr/>
          </p:nvCxnSpPr>
          <p:spPr>
            <a:xfrm>
              <a:off x="7153560" y="3358440"/>
              <a:ext cx="15876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" name=""/>
            <p:cNvSpPr/>
            <p:nvPr/>
          </p:nvSpPr>
          <p:spPr>
            <a:xfrm>
              <a:off x="6983640" y="22096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"/>
            <p:cNvCxnSpPr>
              <a:stCxn id="99" idx="2"/>
              <a:endCxn id="90" idx="0"/>
            </p:cNvCxnSpPr>
            <p:nvPr/>
          </p:nvCxnSpPr>
          <p:spPr>
            <a:xfrm>
              <a:off x="7612200" y="2414520"/>
              <a:ext cx="1440" cy="14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to implement a se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re in BST sorted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need this in order to add or search in 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t doesn't really matter what order the elements appear in a set, so long as they can be added and searched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ask of storing a set in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ould make a good ordering for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576252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752480" y="480060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map a value to an integer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t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n array that stores elements via has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hat maps values to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possible hash function for intege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 algn="ctr"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F(I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11 % 10 ==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49 % 10 == 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24 % 10 == 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7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7 % 10 =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52480" y="576252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of 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HF(int i) {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hash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i) % elementData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: simply 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[HF(i)] = 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: check 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[HF(i)] ==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: 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[HF(i)]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runtim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!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OMGWTFBBQFA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re any problems with this approac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i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a hash function maps two or m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to the same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et.add(5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24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 resolu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for fixing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52480" y="5029200"/>
          <a:ext cx="5619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493920"/>
                <a:gridCol w="493560"/>
                <a:gridCol w="493560"/>
                <a:gridCol w="49392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solving a collision by moving to another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ear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Moves to the nex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5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2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is a good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52480" y="5029200"/>
          <a:ext cx="56484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493920"/>
                <a:gridCol w="507960"/>
                <a:gridCol w="50796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ust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ust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umps of elements at neighboring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s down the hash table lookup; you must loop through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5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2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1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24, then 5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86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14, then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w a lookup for 94 must look at 7 out of 10 total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52480" y="5029200"/>
          <a:ext cx="5677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5079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3:43Z</dcterms:modified>
  <cp:revision>604</cp:revision>
  <dc:subject/>
  <dc:title>CSE 142 Python Slides</dc:title>
</cp:coreProperties>
</file>