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215F-516A-4826-9780-6694B3020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FD41-1698-4CB1-9C6B-EADDD6C522B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7:27Z</dcterms:modified>
  <cp:revision>377</cp:revision>
  <dc:subject/>
  <dc:title>CSE 142 Python Slides</dc:title>
</cp:coreProperties>
</file>