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DDA4-37D3-4BBC-9DF9-6E175C396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7DC9-9E80-4A52-ACB5-FC6AB0A9B12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32Z</dcterms:modified>
  <cp:revision>265</cp:revision>
  <dc:subject/>
  <dc:title>CSE 142 Python Slides</dc:title>
</cp:coreProperties>
</file>