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F1732-7B10-42B3-8DBB-4B62ADBBF8C2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15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ing a Collection Clas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dd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(2) cont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203760" indent="-2037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ng to the middle or front is hard     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(see book ch 7.3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-2455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s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hif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nearby elements to make room for the new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-2455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42);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insert 42 at index 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-2455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e: The order in which you traverse the array matters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219320" y="251460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1219320" y="483408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"/>
          <p:cNvSpPr/>
          <p:nvPr/>
        </p:nvSpPr>
        <p:spPr>
          <a:xfrm>
            <a:off x="4648320" y="5791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dd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(2)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(int index, 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size; i &gt; index; i--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[i] = list[i - 1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[index] = val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4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219320" y="323388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1219320" y="502920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464832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ther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implement the following methods nex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iz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Str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mov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can we remove an element from the lis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remov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delete 9 from index 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219320" y="312408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1219320" y="502920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mov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, cont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ain, we need to shift elements in the arr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time, it's a left-shif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what order should we process the element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ndexes should we proces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remov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delete 9 from index 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219320" y="312408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1219320" y="502920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 flipH="1">
            <a:off x="41144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mov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remove(int inde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index; i &lt; size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[i] = list[i + 1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--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[size] = 0;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optional (why?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remov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delete 9 from index 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219320" y="312408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1219320" y="502920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"/>
          <p:cNvSpPr/>
          <p:nvPr/>
        </p:nvSpPr>
        <p:spPr>
          <a:xfrm flipH="1">
            <a:off x="41144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unning out of sp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should we do if the client adds more than 10 element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15);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add an 11th eleme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219320" y="236232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76320" y="4757760"/>
          <a:ext cx="8980200" cy="1185840"/>
        </p:xfrm>
        <a:graphic>
          <a:graphicData uri="http://schemas.openxmlformats.org/drawingml/2006/table">
            <a:tbl>
              <a:tblPr/>
              <a:tblGrid>
                <a:gridCol w="782280"/>
                <a:gridCol w="507960"/>
                <a:gridCol w="322560"/>
                <a:gridCol w="322200"/>
                <a:gridCol w="322200"/>
                <a:gridCol w="322200"/>
                <a:gridCol w="460440"/>
                <a:gridCol w="322200"/>
                <a:gridCol w="322200"/>
                <a:gridCol w="322200"/>
                <a:gridCol w="322560"/>
                <a:gridCol w="507960"/>
                <a:gridCol w="460440"/>
                <a:gridCol w="460080"/>
                <a:gridCol w="460440"/>
                <a:gridCol w="460440"/>
                <a:gridCol w="460440"/>
                <a:gridCol w="460440"/>
                <a:gridCol w="46008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nvenience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 the follow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dexOf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- returns the first index an element is found, or -1 if no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Emp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- returns true if list has no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ntain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- returns true if the list contains the given int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do we ne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sEmp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ntai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hen we already hav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dex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se methods provide convenience to the client of our 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if (myList.size() == 0) {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if (myList.isEmpty(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if (myList.indexOf(42) &gt;= 0) {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if (myList.contains(42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r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IntLi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add some new features to ou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.  A method that allows client programs to print a list's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.  A constructor that accepts an initial capac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(By writing these we will recall some features of objects in Java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nting lists: You may be tempted to writ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client c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 list = new ArrayIntLis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prin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y is this a bad idea?  What would be better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toString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ls Java how to convert an object into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 list = new ArrayIntLis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list is " +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("list is " + list.toString(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de that returns a suitable 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class ha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even if it isn't in your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default is the class's name and a hex (base-16) number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@9e8c3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reads a file (of unknown size) full of integers and prints the integers in the reverse order to how they occurred in the file.  Consider example fil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ta.tx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93208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-3205327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0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run with this file, your program's output would b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0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-3205327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93208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toString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turns a String representation of the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size == 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"[]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result = "[" + elementData[0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1; i &lt; size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sult += ", " + elementData[i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sult += "]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ltiple construct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isting construct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ArrayIntList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lementData = new int[10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ize = 0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new constructor that accepts a capacity parame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ArrayIntList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capacity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lementData = new int[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apacity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ize = 0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onstructors are very similar.  Can we avoid redundancy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thi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keywor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: A reference to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mplicit para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24"/>
              </a:spcBef>
              <a:buNone/>
              <a:tabLst>
                <a:tab algn="l" pos="0"/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(the object on which a method/constructor is called)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24"/>
              </a:spcBef>
              <a:buNone/>
              <a:tabLst>
                <a:tab algn="l" pos="0"/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refer to a field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iel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call a method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call a constructor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rom another constructor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vised construct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ArrayIntList(int capacity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ementData = new int[capacity]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ize = 0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ArrayIntList(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is(10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calls (int) construc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ize vs. capacit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happens if the client tries to access an element that is past the size but within the capacity (bounds) of the array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get(7)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 a list of size 5  (capacity 1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swer: Currently the list allows this and returns 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this good or bad?  What (if anything) should we do about it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219320" y="312408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econdi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e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Something your meth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ssumes is tru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the start of its execu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2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ten documented as a comment on the method's header: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he element at the given index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econdition: 0 &lt;= index &lt; siz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remove(int inde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elementData[index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ng a precondition doesn't really "solve" the problem, but it at least documents our decision and warns the client what not to do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f we want to actually enforce the precondition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ad precondition te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wrong with the following way to handle violat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he element at the given index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econdition: 0 &lt;= index &lt; siz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remove(int inde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if (index &lt; 0 || index &gt;= siz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ystem.out.println("Bad index! " + index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return -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elementData[index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turning -1 is no better than returning 0  (could be a legal valu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not a very strong deterrent to the client  (esp. GUI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rowing exceptions (4.5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row new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ception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row new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ception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"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0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0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uses the program to immediately crash with an excep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exception typ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rithmeticException, ArrayIndexOutOfBoundsException, FileNotFoundException, IllegalArgumentException, IllegalStateException, IOException, NoSuchElementException, NullPointerException, RuntimeException, UnsupportedOperationExcep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would anyone eve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ant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gram to crash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ception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get(int inde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index &lt; 0 || index &gt;= siz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row ne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rayIndexOutOfBoundsExcepti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index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elementData[index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Modify the rest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state preconditions and throw exceptions as appropriat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ostcondi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st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Something your meth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omises will be tru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of its execu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2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ten documented as a comment on the method's header: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Makes sure that this list's internal array is la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nough to store the given number of elemen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ostcondition: elementData.length &gt;= capac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ensureCapacity(int capacity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double in size until large enoug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capacity &gt; elementData.length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ementData = Arrays.copyOf(elementData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 * elementData.length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your method states a postcondition, clients should be able to rely on that statement being true after they call the metho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lution using array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[] nums = new int[100]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make a really big arr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ize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input = new Scanner(new File("data.txt"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input.hasNextInt(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s[size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input.nextInt(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ad each num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++;                 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into the arr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size - 1; i &gt;= 0; i--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s[i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int rever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711360" y="4952880"/>
          <a:ext cx="7746840" cy="156204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1013040"/>
                <a:gridCol w="1380960"/>
                <a:gridCol w="59868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320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320532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riting testing progra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programs are written specifically to test other program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wrot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want to give it to others, we must make sure it works adequately well fir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client program with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that constructs several lists, adds elements to them, and calls the various other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ips for test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not test every possible input, parameter valu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en a singl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int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 has 2^32 different possible values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 you must think of a limited set of tests likely to expose bug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nk about boundary ca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ositive, zero, negative number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ight at the edge of an array or collection's siz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nk about empty cases and error ca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, -1, null;  an empty list or arra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array or collection that contains null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helping methods in your test program to shorten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re testing ti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 on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pect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s.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tu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test shouldn't just call methods and print results; it shoul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ll the method(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are their results to a known correct expected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y are the same, report that the test "passed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y differ, report that the test "failed" along with the valu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behavior in comb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yb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usually works, but fails after you call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mov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happens if I call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ke multiple calls;  mayb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ails the second time onl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ampl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Int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te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[] a1 = {5, 2, 7, 8, 4}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[] a2 = {2, 7, 42, 8}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[] a3 = {7, 42, 42}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elper(a1, a2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elper(a2, a3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elper(new int[] {1, 2, 3, 4, 5}, new int[] {2, 3, 42, 4}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helper(int[] elements, int[] expected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rrayIntList list = new ArrayIntList(elements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0; i &lt; elements.length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ist.add(elements[i]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ist.remove(0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ist.remove(list.size() - 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ist.add(2, 42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0; i &lt; expected.length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list.get(i) != expected[i]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"fail; expect " + Arrays.toString(expected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 ", actual " + lis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inish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IntLi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add the following features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constant for the default list capac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etter encapsulation and protection of implementation detail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better way to print list objec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ass consta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static final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ass consta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global, unchangeable value in a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d to store and give names to important values used in c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cuments an important value;  easier to find and change la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will often store constants related to tha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PI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eger.MAX_VAL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eger.MIN_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lor.GREE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default array length for new ArrayIntLi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static final int DEFAULT_CAPACITY = 10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Helper"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our list class has a few useful "helper"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eckResiz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eckInde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index, int min, int max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wrote them to help us implement other required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don't want clients to call these methods; they are inter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can we stop clients from calling them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private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...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ivate metho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be seen/called only by its own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ncapsulated, similar to fiel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r object can call the method on itself, but clients cannot call 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ful for "helper" methods that clients shouldn't directly touc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void checkIndex(int index, int min, int ma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index &lt; min || index &gt; ma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row new IndexOutOfBoundsException(index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inting an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IntLi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our list class ha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client c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 list = new ArrayIntLis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.prin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y is this a bad idea?  What would be better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toString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ls Java how to convert an object into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 list = new ArrayIntLis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list is " +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de that returns a suitable 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class ha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even if it isn't in your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default is the class's name and a hex (base-16) number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@9e8c3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nfilled array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nums = new int[100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size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often need to store an unknown number of valu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rays can be used for this, but we must count the valu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ly the values at indexes [0,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iz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- 1] are releva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are using an array to store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valu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other operations might we want to run on lists of value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711360" y="4952880"/>
          <a:ext cx="7746840" cy="156204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1013040"/>
                <a:gridCol w="1380960"/>
                <a:gridCol w="59868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320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320532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toString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turns a String representation of the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size == 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"[]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result = "[" + elementData[0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1; i &lt; size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sult += ", " + elementData[i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sult += "]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class call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utterInt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s constructor accepts an integer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tretc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parame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ery time an integer is added, the list will actually add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tretc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number of copies of that integ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u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utterIntList list = new StutterIntList(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7);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[7, 7, 7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-1);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[7, 7, 7, -1, -1, -1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2, 5);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[7, 7, 5, 5, 5, 7, -1, -1, -1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remove(4);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[7, 7, 5, 5, 7, -1, -1, -1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list.getStretch());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herita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herita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Forming new classes based on existing o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way to share/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euse co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etween two or more class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uperclas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Parent class being extend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ubclas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Child class that inherits behavior from super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ts a copy of every field and method from supercla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Picture 4" descr="employee_manuals"/>
          <p:cNvPicPr/>
          <p:nvPr/>
        </p:nvPicPr>
        <p:blipFill>
          <a:blip r:embed="rId1"/>
          <a:stretch/>
        </p:blipFill>
        <p:spPr>
          <a:xfrm>
            <a:off x="2286000" y="3962520"/>
            <a:ext cx="4648320" cy="26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Employe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Employe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getHours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40;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works 40 hours / wee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40000.0;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$40,000.00 / yea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getVacationDays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10;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2 weeks' paid vac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ring getVacationForm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"yellow";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use the yellow for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wyers, Secretaries, etc. have similar behavior to the abov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to implement those classes without redundancy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heritance synta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extends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superclas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Lawyer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extends Employe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extend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eac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awy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 now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ceives a copy of each method from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utomaticall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be treated as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y client c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verriding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verri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o replace a superclass's method by writing a new version of that method in a sub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pecial syntax is required to override a method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Just write a new version of it in the sub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overrides getSalary method in Employee clas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give Lawyers a $5K ra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public double getSalary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return 45000.0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up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keywor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classes can call overridden methods wi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per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give Lawyers a $5K raise (bet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baseSalary =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uper.getSalary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baseSalary + 5000.0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version makes sure that Lawyers always make $5K more than Employees, even if the Employee's salary chang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lling super construct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super(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Lawyer(String nam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uper(name)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calls Employee construc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p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llows a subclass constructor to call a superclass on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p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ll must be the first statement in the construct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structors are not inherited; If you extend a class, you must write all the constructors you want your subclass to hav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StutterIntLis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tends ArrayIntLis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 int stretch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utterIntList(int stretchFactor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per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etch = stretchFactor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utterIntList(int stretchFactor, int capacity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per(capacity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etch = stretchFactor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1; i &lt;= stretch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per.add(valu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add(int index, int valu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1; i &lt;= stretch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per.add(index, valu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Stretch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stretch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ubclasses and fiel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Employ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doubl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lar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giveRaise(double amoun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alary += amoun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rror; salary is priv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herited private fields/methods cannot be directly accessed by subclasses. 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(The subclass has the field, but it can't touch it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can we allow a subclass to access/modify these field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ther possible opera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add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[] list, int siz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, int value, int inde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remove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[] list, int siz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int index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find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[] list, int siz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int valu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prin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[] list, int siz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ould implement these operations as methods that accept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rray and it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iz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along with other paramet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since the behavior and data are so closely related, it makes more sense to put them together into an objec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list object can store an array of elements and a size, and can have methods for manipulating the list of elemen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motes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bstrac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hides details of how the list work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tected fields/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protect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protect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...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metho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tected field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tho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be seen/called only b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lass itself,  and its subclass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so by other classes in the same "package"  (discussed later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ful for allowing selective access to inner class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Employ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protect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doubl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lar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r list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implemented the following two list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should be able to treat both lists the same way in client cod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282920" y="1952640"/>
          <a:ext cx="211788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208" name=""/>
          <p:cNvSpPr/>
          <p:nvPr/>
        </p:nvSpPr>
        <p:spPr>
          <a:xfrm>
            <a:off x="3290040" y="36036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4282920" y="32050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10" name=""/>
          <p:cNvSpPr/>
          <p:nvPr/>
        </p:nvSpPr>
        <p:spPr>
          <a:xfrm>
            <a:off x="5486400" y="3814920"/>
            <a:ext cx="341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5904000" y="3214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12" name=""/>
          <p:cNvSpPr/>
          <p:nvPr/>
        </p:nvSpPr>
        <p:spPr>
          <a:xfrm>
            <a:off x="7162920" y="38149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543800" y="3233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14" name=""/>
          <p:cNvSpPr/>
          <p:nvPr/>
        </p:nvSpPr>
        <p:spPr>
          <a:xfrm>
            <a:off x="4038480" y="38149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8229240" y="36576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all: ADT interfaces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1.1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bstract data type (ADT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specification of a collection of data and the operations that can be performed on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scribe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ha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 collection does, no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ho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t does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's collection framework describes ADTs with interfac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llec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eq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ortedMa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DT can be implemented in multiple ways by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h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Deq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etc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Create an ADT interface for the two list clas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nt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interface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6.4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presents a list of integ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erface Int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index, 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get(int inde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indexOf(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boolean isEmpty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remove(int inde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et(int index, 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siz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ArrayIntList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mplements Int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LinkedIntList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mplements Int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r list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have implemented the following two list collection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can store onl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lements, not any type of valu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4282920" y="1952640"/>
          <a:ext cx="211788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223" name=""/>
          <p:cNvSpPr/>
          <p:nvPr/>
        </p:nvSpPr>
        <p:spPr>
          <a:xfrm>
            <a:off x="3290040" y="36036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4282920" y="32050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25" name=""/>
          <p:cNvSpPr/>
          <p:nvPr/>
        </p:nvSpPr>
        <p:spPr>
          <a:xfrm>
            <a:off x="5486400" y="3814920"/>
            <a:ext cx="341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5904000" y="3214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27" name=""/>
          <p:cNvSpPr/>
          <p:nvPr/>
        </p:nvSpPr>
        <p:spPr>
          <a:xfrm>
            <a:off x="7162920" y="38149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7543800" y="3233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29" name=""/>
          <p:cNvSpPr/>
          <p:nvPr/>
        </p:nvSpPr>
        <p:spPr>
          <a:xfrm>
            <a:off x="4038480" y="38149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8229240" y="36576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ype Parameters (Generics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new ArrayList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(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all: When constructing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.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you specify the type of elements it will contain betwee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say that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 accepts a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 param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 that it is a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generic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&lt;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ames = new ArrayList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&lt;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s.add("Marty Stepp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s.add("Stuart Reges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generic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a parameterized (generic)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y putting the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you are demanding that any client that constructs your object must supply a type parame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-163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can require multiple type parameters separated by comm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rest of your class's code can refer to that type by nam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Convert our list classes to use generic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enerics and arrays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5.4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Foo&lt;T&gt;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 T myField;              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method1(T param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800000"/>
                </a:solidFill>
                <a:latin typeface="Courier New"/>
              </a:rPr>
              <a:t>myField = new T()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800000"/>
                </a:solidFill>
                <a:latin typeface="Courier New"/>
              </a:rPr>
              <a:t>T[] a = new T[10];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annot create objects or arrays of a parameterized typ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enerics/arrays, fixe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Foo&lt;T&gt;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 T myField;              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method1(T param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myField = param;            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T[] a2 = (T[]) (new Object[10]);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you can create variables of that type, accept them as parameters, return them, or create arrays by cast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[]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aring generic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ArrayList&lt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int indexOf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value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int i = 0; i &lt; size; i++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if (elementData[i] == value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elementData[i].equals(value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i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-1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testing objects of type E for equality, must us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qual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write a class that implements a list using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[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201"/>
              </a:spcBef>
              <a:buNone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'll call i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ehavior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de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de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dex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move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de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dexOf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oString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list'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iz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ill be the number of elements added to it so fa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will the list be used?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eneric linked list nod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ListNode&lt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E data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ListNode&lt;E&gt; nex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a generic linked list, the node class must also accept the type paramete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eneric interface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5.3, 16.5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presents a list of valu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erface List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&lt;E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index,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get(int inde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indexOf(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boolean isEmpty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remove(int inde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et(int index,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siz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ArrayIntList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&lt;E&gt; implements IntList&lt;E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LinkedIntList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&lt;E&gt; implements IntList&lt;E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d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do we add to the end of a lis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4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219320" y="289548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1219320" y="510552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dd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, cont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 to end of list, just store element and increase siz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[size] = val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++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4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219320" y="289548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1219320" y="510552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dd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(2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do we add to the middle or end of the lis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42);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insert 42 at index 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219320" y="251460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1219320" y="483408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0-04-04T19:29:05Z</dcterms:modified>
  <cp:revision>85</cp:revision>
  <dc:subject/>
  <dc:title>CSE 142 Python Slides</dc:title>
</cp:coreProperties>
</file>