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D8D-8A9F-43E2-83EE-F1B94CF22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5C0E-E806-4624-83E9-6AD77852668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6:33Z</dcterms:modified>
  <cp:revision>313</cp:revision>
  <dc:subject/>
  <dc:title>CSE 142 Python Slides</dc:title>
</cp:coreProperties>
</file>