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D40D-77B2-497F-AAB0-86F765A87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you get rid of the int size variable above and replace it with list.size() ?  (infinite loo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"ArrayList&lt;Integer&gt;" as just all being one atomic token representing the 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jGRASP/DrJava Interactions window to create a list and add some elements, get them, check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91A4-ACFA-453A-940F-234CE37336C9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java.sun.com/javase/6/docs/api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0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Parameters (Generics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construct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ou must specify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elements it will contain betwe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called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type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generic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s the sam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to store lists of different typ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ames = new ArrayLis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Marty Stepp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Stuart Reg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earning abou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Java API Specific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is a huge web page containing documentation about every Java class and its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ink to the API Specs is on the course web si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057400" y="2743200"/>
            <a:ext cx="502920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arra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String[] name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List&lt;String&gt; list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ing 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names[0] = "Jessica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.add("Jessica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ieving 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String s = names[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s = list.get(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array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ing something to each value that start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B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for (int i = 0; i &lt; names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if (names[i].startsWith("B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(list.get(i).startsWith("B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ing whether the valu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Benson"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fou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for (int i = 0; i &lt; names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if (names[i].equals("Benson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(list.contains("Benson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, revisit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and displ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ords of that file as a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display all wor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in reverse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s (ending in "s") capitaliz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 words remov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(partia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List&lt;String&gt; allWords = new ArrayList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words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input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lWords.add(word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llWord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 all plural 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llWords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allWords.get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word.endsWith("s"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lWords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s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 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s all plural words from the given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movePlura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List&lt;String&gt; li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tr = list.get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tr.endsWith("s"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also return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f primitives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ype you specify when creat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st be an object type; it cannot be a primitive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llegal -- int cannot be a type parame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&lt;int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list = new ArrayList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&lt;int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we can still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primitive types by using special classes call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rapp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 in their pl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creates a list of 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Integer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list = new 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Integer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rapper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A wrapper is an object whose sole purpose is to hold a primitive value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ce you construct the list, use it with primitives as norma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Doubl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grades = new 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Doubl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des.add(3.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des.add(2.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myGrade = grades.get(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590920" y="1295280"/>
          <a:ext cx="3997080" cy="1976400"/>
        </p:xfrm>
        <a:graphic>
          <a:graphicData uri="http://schemas.openxmlformats.org/drawingml/2006/table">
            <a:tbl>
              <a:tblPr/>
              <a:tblGrid>
                <a:gridCol w="2022480"/>
                <a:gridCol w="1974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imitive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rapper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ac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162920" y="76320"/>
            <a:ext cx="188748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full of numbers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plays all the numbers as a list, the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s the average of the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s the highest and lowest numb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lters out all of the even numbers (ones divisible by 2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and displ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ords of that file as a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display all wor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s (ending in "s") capitaliz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in reverse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 words remov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we solve this problem using an arra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or why no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(partia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List&lt;Integer&gt; numbers = new ArrayList&lt;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new File("numbers.txt"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nput.hasNextInt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 = input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s.add(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umber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terEvens(number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umber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moves all elements with even values from the given lis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terEve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ArrayList&lt;Integer&gt; lis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list.size() - 1; i &gt;= 0; i--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 = list.get(i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n % 2 =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verses the order of the elements i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pitaliz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places every word ending with an "s" with its uppercased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moves every word in the list ending with an "s", case-insensit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-of-boun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al indexes are betwee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st's size() -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or writing any index outside this range will caus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dexOutOfBounds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&lt;String&gt; names = new ArrayList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Marty");   names.add("Kevin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Vicki");   names.add("Larry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s.get(0)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s.get(3)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names.get(-1));      // 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names.add(9, "Aimee");                  // 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462040" y="5410080"/>
          <a:ext cx="393840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817560"/>
                <a:gridCol w="793800"/>
                <a:gridCol w="696600"/>
                <a:gridCol w="755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r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v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ick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r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List "mystery"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&lt;Integer&gt; list = new ArrayList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10 * i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10, 20, 30, 40, ..., 10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output of the following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is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20, 40, 60, 80, 100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List "mystery"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&lt;Integer&gt; list = new ArrayList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5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2 * i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2, 4, 6, 8, 1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output of the following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ize = list.siz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size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i, 42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 42 at index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is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42, 42, 42, 42, 42, 2, 4, 6, 8, 10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s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 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s all plural words from the given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movePlura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List&lt;String&gt; li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tr = list.get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tr.endsWith("s"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also return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array list of strings as a parameter and plac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fter each el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f an array list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itially stor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the, quick, brown, fox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the call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tars(list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makes it sto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the, *, quick, *, brown, *, fox, *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array list of strings, assuming that every other element i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removes the stars (undoing what was done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ov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addStars(ArrayList&lt;String&gt; lis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+=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i, 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moveStars(ArrayList&lt;String&gt; lis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++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ers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two sorted array lists of integers as parameters and returns a new list that contains only the elements that are found in both li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f lists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itially sto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1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8, 9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15, 17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8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41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59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7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7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19, 20, 23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8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37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59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8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the call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rsect(list1, list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returns the lis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4, 11, 17, 28, 59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verses the order of the elements i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pitaliz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places every word ending with an "s" with its uppercased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moves every word in the list ending with an "s", case-insensit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aiv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[] allWord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String[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00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wordCou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data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input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lWords[wordCount] = wor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Count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You don't know how many words the file will ha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rd to create an array of the appropriate siz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ter parts of the problem are more difficult to sol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uckily, there are other ways to store data besides in an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jects storing collec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object can have an array, list, or other collection as a fie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Cour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 double[] grade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 ArrayList&lt;String&gt; studentName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ourse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des = new double[4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dentNames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each object stores a collection of data inside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0.2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ndard way for a Java class to define a comparison function for its objects is to defin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, there is a metho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String oth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l of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compareTo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will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before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after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re considered "equal" in the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used as a test i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a = "alice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b = "bob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a.compareTo(b) &lt; 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533520" y="3710160"/>
          <a:ext cx="8153280" cy="2766960"/>
        </p:xfrm>
        <a:graphic>
          <a:graphicData uri="http://schemas.openxmlformats.org/drawingml/2006/table">
            <a:tbl>
              <a:tblPr/>
              <a:tblGrid>
                <a:gridCol w="3047760"/>
                <a:gridCol w="5105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miti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lt;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lt;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lt;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lt;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=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=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!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!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gt;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gt;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gt;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gt;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collec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use an array or list of strings with Java's included binary search method because it call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nal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a = {"al", "bob", "cari", "dan", "mike"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index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s.binarySearc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a, "dan"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nally for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String&gt; set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String s : 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al, bob, cari, dan, mike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rdering our own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not binary search or mak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rbitrary types, because Java doesn't know how to order the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rogram compiles but crashes when we run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HtmlTag&gt; tags =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new TreeSet&lt;HtmlTag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ody", true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false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xception in thread "main" java.lang.ClassCas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t java.util.TreeSet.add(TreeSet.java:23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ab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10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erface Comparable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compareTo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oth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to define a natural ordering function for its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l to y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should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mes "before"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mes "after"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is considered "equal"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If you want multiple orderings, use a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Comparator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instead (see Ch. 13.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ab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mpl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mplements Comparable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compareTo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other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ab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Comparable&lt;Point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ort by x and break ties by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ublic int compareTo(Point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x &lt; other.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x &gt; other.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y &lt; other.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-1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ame x, smaller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y &gt; other.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1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ame x, larger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0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ame x and same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ric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ubtraction tric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Subtracting related numeric values produces the right result for what you wan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ort by x and break ties by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compareTo(Point other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x != other.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x - other.x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different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y - other.y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ame x; compare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dea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&gt; other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- other.x &gt;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&lt; other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- other.x &lt;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= other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- other.x =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31120" indent="0">
              <a:spcBef>
                <a:spcPts val="249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3" marL="1131120" indent="-162720"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NOTE: This trick doesn't work for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s   (but see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Math.signum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rick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legation tr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If your object's fields are comparable (such as strings), use thei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to help yo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ort by employee name, e.g. "Jim" &lt; "Susan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Employee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name.compareTo(other.getNam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tr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If your object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ation is related to the ordering, use that to help yo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ort by date, e.g. "09/19" &gt; "04/01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Date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toString().compareTo(other.toString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lec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e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stores data;  a.k.a. "data structur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bjects stored are call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collections maintain an ordering; some allow duplica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ypical operations: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le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search)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 found in the Java class librari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Ma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ority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collections are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ck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tmlTa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from HTML Validator compar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e tags by their elements, alphabetically by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the same element, opening tags come before closing tag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ody&gt;&lt;b&gt;&lt;/b&gt;&lt;i&gt;&lt;b&gt;&lt;/b&gt;&lt;br/&gt;&lt;/i&gt;&lt;/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HtmlTag&gt; tags = new TreeSet&lt;HtmlTa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ody", true)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true));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false))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i", true));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i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true));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false))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r")); 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r/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i", false))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i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ody", false)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tag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&lt;b&gt;, &lt;/b&gt;, &lt;body&gt;, &lt;/body&gt;, &lt;br/&gt;, &lt;i&gt;, &lt;/i&gt;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HtmlTag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mplements Comparable&lt;HtmlTag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ompares tags by their element ("body" before "head"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reaking ties with opening tags before closing tag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&lt; 0 for less, 0 for equal, &gt; 0 for great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public int compareTo(HtmlTag oth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mpare = element.compareTo(other.getElement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ompare !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different tags; use String's compareTo resul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ompar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ame ta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(isOpenTag == other.isOpenTag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0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actly the same kind of ta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other.isOpenTag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1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he=open, I=close; I am af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-1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I=open, he=close; I am bef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collections framewor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53416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storing an ordered sequence of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element is accessible by a 0-bas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de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ist ha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number of elements that have been adde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ments can be added to the front, back, or elsewhe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Java, a list can be represented as 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43000" y="3714840"/>
            <a:ext cx="693432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dea of a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her than creating an array of boxes, create an object that represents a "list" of items.  (initially an empty lis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add items to the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fault behavior is to add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hello, ABC, goodbye, okay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ist object keeps track of the element values that have been added to it, their order, indexes, and its total siz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nk of an "array list" as an automatically resizing array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nally, the list is implemented using an array and a size fiel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 (10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80880" y="1371600"/>
          <a:ext cx="8382240" cy="4776840"/>
        </p:xfrm>
        <a:graphic>
          <a:graphicData uri="http://schemas.openxmlformats.org/drawingml/2006/table">
            <a:tbl>
              <a:tblPr/>
              <a:tblGrid>
                <a:gridCol w="2916360"/>
                <a:gridCol w="5465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ppends value at end of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erts given value just before the given index, shifting subsequent values to the 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ea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elements of the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first index where given value is found in list (-1 if not fou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value at given 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/returns value at given index, shifting subsequent values to the 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places value at given index with given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umber of elements in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tring representation of the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ch a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[3, 42, -7, 15]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5400" y="1407960"/>
          <a:ext cx="8975520" cy="4840560"/>
        </p:xfrm>
        <a:graphic>
          <a:graphicData uri="http://schemas.openxmlformats.org/drawingml/2006/table">
            <a:tbl>
              <a:tblPr/>
              <a:tblGrid>
                <a:gridCol w="2654280"/>
                <a:gridCol w="6321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all elements from the given list to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at the end of the list, or inserts them at the given inde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given value is found somewhere in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this list contains every element from given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given other list contains the same el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terator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istIterator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n object used to examine the contents of the list (seen lat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stIndex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last index value is found in list (-1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inds and removes the given value from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ny elements found in the given list from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tain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ny element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found in given list from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Lis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ro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sub-portion of the list between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ro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inclusive) an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exclusiv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Arra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elements in this list as an arr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19:32:50Z</dcterms:modified>
  <cp:revision>115</cp:revision>
  <dc:subject/>
  <dc:title>CSE 142 Python Slides</dc:title>
</cp:coreProperties>
</file>