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37B-357A-4013-A590-29ED77E4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3544-B798-4329-91FC-A706FC9845C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40:10Z</dcterms:modified>
  <cp:revision>126</cp:revision>
  <dc:subject/>
  <dc:title>CSE 142 Python Slides</dc:title>
</cp:coreProperties>
</file>