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7.xml.rels" ContentType="application/vnd.openxmlformats-package.relationships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5B19-92CC-41DC-A682-7B299995F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even open the code for Math.java in the Java src.zip install file in the JDK fol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885B-919B-4A7E-9CBB-C4182FC4AFED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8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 (desired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5, -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2 = new Point();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rigin, (0, 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in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in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3520" y="4673520"/>
          <a:ext cx="8418240" cy="2032200"/>
        </p:xfrm>
        <a:graphic>
          <a:graphicData uri="http://schemas.openxmlformats.org/drawingml/2006/table">
            <a:tbl>
              <a:tblPr/>
              <a:tblGrid>
                <a:gridCol w="2581200"/>
                <a:gridCol w="58370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tLocation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ts the point's x and y to the given val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nslat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justs the point's x and y by the given amou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stanc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w far away the point is from point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raw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splays the point on a drawing pan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533520" y="2666880"/>
          <a:ext cx="4511520" cy="1219320"/>
        </p:xfrm>
        <a:graphic>
          <a:graphicData uri="http://schemas.openxmlformats.org/drawingml/2006/table">
            <a:tbl>
              <a:tblPr/>
              <a:tblGrid>
                <a:gridCol w="1588680"/>
                <a:gridCol w="29228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el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e point's x-coordin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e point's y-coordin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 as bluepri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-19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ass (blueprint) will describe how to create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-19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object will contain its own data and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1295280"/>
            <a:ext cx="3505320" cy="17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Poi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x, 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285640" y="3124080"/>
            <a:ext cx="4191480" cy="519120"/>
            <a:chOff x="2285640" y="3124080"/>
            <a:chExt cx="4191480" cy="519120"/>
          </a:xfrm>
        </p:grpSpPr>
        <p:sp>
          <p:nvSpPr>
            <p:cNvPr id="141" name=""/>
            <p:cNvSpPr/>
            <p:nvPr/>
          </p:nvSpPr>
          <p:spPr>
            <a:xfrm flipH="1">
              <a:off x="2285640" y="3124080"/>
              <a:ext cx="205740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19720" y="3124080"/>
              <a:ext cx="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95680" y="3124080"/>
              <a:ext cx="198144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76320" y="3706920"/>
            <a:ext cx="2895480" cy="167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oint object 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5,   y = 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3706920"/>
            <a:ext cx="2895480" cy="167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oint object 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-245,   y = 18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3706920"/>
            <a:ext cx="2895840" cy="167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oint object #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18,   y = 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 state: Fiel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int class, version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ve this code into a file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.jav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bove code creates a new type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ntains two pieces of data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 do not contain any behavior (yet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el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riable inside an object that is part of its st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object ha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ts own cop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each fie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laration 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tud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each Student object has a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uble gpa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name and gpa 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classes can access/modify an object's fiel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ss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1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2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x-coord is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cc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y =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3;                  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dif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class and its cli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.jav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not, by itself, a runnable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lass can be used by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i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gram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2577960"/>
            <a:ext cx="3809880" cy="3322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PointMain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ient prog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PointMai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(String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p1 = new Po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1.x = 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1.y =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p2 = new Po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2.x = 4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2.y = 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2400480"/>
            <a:ext cx="3276360" cy="1332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Point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ass of objec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Point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4191120"/>
            <a:ext cx="2438280" cy="72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486400" y="426708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5334120" y="5180040"/>
            <a:ext cx="2438280" cy="72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486400" y="525636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4419720" y="2743200"/>
            <a:ext cx="1066680" cy="6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62520" y="3581280"/>
            <a:ext cx="12189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457200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Mai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ien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PointMain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reate two Point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1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2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4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0,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ve p2 and then prin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6,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ercise: Modify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m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rogram to 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6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of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alue that does not refer to any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of an array of objects are initialized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[] windows = new DrawingPanel[3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389400" y="3581280"/>
          <a:ext cx="4097160" cy="990720"/>
        </p:xfrm>
        <a:graphic>
          <a:graphicData uri="http://schemas.openxmlformats.org/drawingml/2006/table">
            <a:tbl>
              <a:tblPr/>
              <a:tblGrid>
                <a:gridCol w="874440"/>
                <a:gridCol w="644400"/>
                <a:gridCol w="644760"/>
                <a:gridCol w="644400"/>
                <a:gridCol w="644400"/>
                <a:gridCol w="64476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3371760" y="4876920"/>
          <a:ext cx="2808360" cy="990360"/>
        </p:xfrm>
        <a:graphic>
          <a:graphicData uri="http://schemas.openxmlformats.org/drawingml/2006/table">
            <a:tbl>
              <a:tblPr/>
              <a:tblGrid>
                <a:gridCol w="874800"/>
                <a:gridCol w="644400"/>
                <a:gridCol w="644400"/>
                <a:gridCol w="64476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2" name=""/>
          <p:cNvGrpSpPr/>
          <p:nvPr/>
        </p:nvGrpSpPr>
        <p:grpSpPr>
          <a:xfrm>
            <a:off x="838080" y="3962520"/>
            <a:ext cx="2286000" cy="444240"/>
            <a:chOff x="838080" y="3962520"/>
            <a:chExt cx="2286000" cy="444240"/>
          </a:xfrm>
        </p:grpSpPr>
        <p:sp>
          <p:nvSpPr>
            <p:cNvPr id="173" name=""/>
            <p:cNvSpPr/>
            <p:nvPr/>
          </p:nvSpPr>
          <p:spPr>
            <a:xfrm>
              <a:off x="838080" y="396252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62320" y="4178160"/>
              <a:ext cx="7617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06640" y="398592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09480" y="5194440"/>
            <a:ext cx="2514600" cy="444240"/>
            <a:chOff x="609480" y="5194440"/>
            <a:chExt cx="2514600" cy="444240"/>
          </a:xfrm>
        </p:grpSpPr>
        <p:sp>
          <p:nvSpPr>
            <p:cNvPr id="177" name=""/>
            <p:cNvSpPr/>
            <p:nvPr/>
          </p:nvSpPr>
          <p:spPr>
            <a:xfrm>
              <a:off x="609480" y="5194440"/>
              <a:ext cx="13716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indow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61960" y="5410080"/>
              <a:ext cx="762120" cy="7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06280" y="5217840"/>
              <a:ext cx="381240" cy="38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ings you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do w/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nul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a variable or an array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[2]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whether a variable or array elemen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words[2] == null)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a parameter to a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null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rom a method  (often to indicate failu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rogramming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iven a file of cities' (x, y) coordinate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begins with the number of citi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0 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0 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0 7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4 9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13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0 9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program to draw the cities o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hen drop a "bomb" that turns all cities red that are within a given radiu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ast site x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ast site y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ast radius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aboom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972480" y="1285920"/>
            <a:ext cx="2019240" cy="26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pointer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efer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access data or methods of an object with the dot notation, such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.length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s illegal to dereferenc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causes an exception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any object, so it has no methods or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word is: " + words[0]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[0]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words[0].toUpperCase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 is: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Exception in thread "main" java.lang.NullPointer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at Example.main(Example.java:8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876920" y="4390920"/>
          <a:ext cx="4097160" cy="790560"/>
        </p:xfrm>
        <a:graphic>
          <a:graphicData uri="http://schemas.openxmlformats.org/drawingml/2006/table">
            <a:tbl>
              <a:tblPr/>
              <a:tblGrid>
                <a:gridCol w="874440"/>
                <a:gridCol w="644400"/>
                <a:gridCol w="644760"/>
                <a:gridCol w="644400"/>
                <a:gridCol w="644400"/>
                <a:gridCol w="644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oking before you lea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heck f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fore calling an object's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s[0] = "hello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s[2] = "goodbye"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words[1], [3], [4] are nu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word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words[i] !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s[i] = words[i].toUpperCas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913120" y="5029200"/>
          <a:ext cx="5614920" cy="990720"/>
        </p:xfrm>
        <a:graphic>
          <a:graphicData uri="http://schemas.openxmlformats.org/drawingml/2006/table">
            <a:tbl>
              <a:tblPr/>
              <a:tblGrid>
                <a:gridCol w="874800"/>
                <a:gridCol w="1250640"/>
                <a:gridCol w="644760"/>
                <a:gridCol w="1555560"/>
                <a:gridCol w="644760"/>
                <a:gridCol w="6444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HELLO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GOODBYE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8" name=""/>
          <p:cNvGrpSpPr/>
          <p:nvPr/>
        </p:nvGrpSpPr>
        <p:grpSpPr>
          <a:xfrm>
            <a:off x="457200" y="5346720"/>
            <a:ext cx="2286000" cy="444600"/>
            <a:chOff x="457200" y="5346720"/>
            <a:chExt cx="2286000" cy="444600"/>
          </a:xfrm>
        </p:grpSpPr>
        <p:sp>
          <p:nvSpPr>
            <p:cNvPr id="189" name=""/>
            <p:cNvSpPr/>
            <p:nvPr/>
          </p:nvSpPr>
          <p:spPr>
            <a:xfrm>
              <a:off x="457200" y="534672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81440" y="556272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25760" y="537048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wo-phase initial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) initialize the array itself (each element is initiall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) initialize each element of the array to be a new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[] words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String[4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h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word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ords[i]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word" + i;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hase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362320" y="4038480"/>
          <a:ext cx="6487920" cy="990720"/>
        </p:xfrm>
        <a:graphic>
          <a:graphicData uri="http://schemas.openxmlformats.org/drawingml/2006/table">
            <a:tbl>
              <a:tblPr/>
              <a:tblGrid>
                <a:gridCol w="874800"/>
                <a:gridCol w="1403280"/>
                <a:gridCol w="1403280"/>
                <a:gridCol w="1403280"/>
                <a:gridCol w="140328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0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1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2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3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5" name=""/>
          <p:cNvGrpSpPr/>
          <p:nvPr/>
        </p:nvGrpSpPr>
        <p:grpSpPr>
          <a:xfrm>
            <a:off x="0" y="4356000"/>
            <a:ext cx="2286000" cy="444600"/>
            <a:chOff x="0" y="4356000"/>
            <a:chExt cx="2286000" cy="444600"/>
          </a:xfrm>
        </p:grpSpPr>
        <p:sp>
          <p:nvSpPr>
            <p:cNvPr id="196" name=""/>
            <p:cNvSpPr/>
            <p:nvPr/>
          </p:nvSpPr>
          <p:spPr>
            <a:xfrm>
              <a:off x="0" y="435600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24240" y="457200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68560" y="437976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mb answer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Displays a set of cities and simulates dropping a "bomb" on them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Bomb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rawingPanel panel = new DrawingPanel(200, 200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cities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oint[] cities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= readCities(input, g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drop the "bomb"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oint bomb = new Po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Blast site x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mb.x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Blast site y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mb.y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Blast radius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radius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boom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mb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, radius, cities, g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mb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input file of cities and returns them as array of Point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Point[] readCities(Scanner input, Graphics g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numCities = input.nextInt();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irst line = # of citie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oint[] cities = new Point[numCities]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cities.length; i++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 = new Po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= input.nextInt();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 city x/y from fil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= input.next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3, 3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drawString("(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)",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cities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Simulates dropping a bomb at the given location on the given citie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boom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oint bomb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int radius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oint[] cities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Graphics g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drawOval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omb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radius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omb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radius, 2 * radius, 2 * radius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cities.length; i++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dx =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bomb.x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dy =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bomb.y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distance = Math.sqrt(dx * dx + dy * dy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distance &lt;= radius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3, 3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drawString("(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)",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Kaboom!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 behavior: Metho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 code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client program wants to draw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each c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cities[i].x, cities[i].y, 3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(" + cities[i].x + ", " + cities[i].y + ")"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ities[i].x, cities[i].y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raw them in other places, the code must be repea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remove this redundancy using a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liminating redundancy, v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eliminate the redundancy with a static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80"/>
                </a:solidFill>
                <a:latin typeface="Courier New"/>
              </a:rPr>
              <a:t>// Draws the given point on the DrawingPanel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void draw(Point p, Graphics g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g.fillOval(p.x, p.y, 3, 3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g.drawString("(" + p.x + ", " + p.y + ")", p.x, p.y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ould call the method as foll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draw each 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(cities[i], 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 with static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re missing a major benefit of objects: code reu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program that draw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would need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ntax doesn't match how we're used to using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draw(cities[i], g);    // static (ba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oint of classes is to combine state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havior is closely related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's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belong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ns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cities[i].draw(g);     // inside object (bet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stanc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tance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Exists inside each object of a class and gives behavior to each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me syntax as static methods, but withou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keywor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hou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HELLO THERE!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bad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cities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cityCount = input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xCoords = new int[cityCount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yCoords = new int[cityCount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cityCount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Coords[i] = input.nextInt(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ad each 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Coords[i] = input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rallel arra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2+ arrays with related data at same index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idered poor sty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stance method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Draws this Point object with the given p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void draw(Graphics g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no longer h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parameter.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ill the method know which point to draw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will the method access that point's x/y dat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has its own copy o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, which operates on that object's stat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1.x = 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1.y =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2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2.x = 4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2.y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1.draw(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2.draw(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4210200" y="3073320"/>
            <a:ext cx="4857480" cy="145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draw(Graphics 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// this code can see p1's x and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 w/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362480" y="313704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362480" y="494028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4210200" y="4800600"/>
            <a:ext cx="4857480" cy="145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draw(Graphics 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// this code can see p2's x and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085840" y="5181480"/>
            <a:ext cx="1981440" cy="444600"/>
            <a:chOff x="2085840" y="5181480"/>
            <a:chExt cx="1981440" cy="444600"/>
          </a:xfrm>
        </p:grpSpPr>
        <p:sp>
          <p:nvSpPr>
            <p:cNvPr id="222" name=""/>
            <p:cNvSpPr/>
            <p:nvPr/>
          </p:nvSpPr>
          <p:spPr>
            <a:xfrm>
              <a:off x="2085840" y="5181480"/>
              <a:ext cx="102708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p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8"/>
            <p:cNvSpPr/>
            <p:nvPr/>
          </p:nvSpPr>
          <p:spPr>
            <a:xfrm>
              <a:off x="3381480" y="5397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95640" y="52164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915080" y="1886040"/>
            <a:ext cx="1389960" cy="1066320"/>
            <a:chOff x="4915080" y="1886040"/>
            <a:chExt cx="1389960" cy="1066320"/>
          </a:xfrm>
        </p:grpSpPr>
        <p:sp>
          <p:nvSpPr>
            <p:cNvPr id="226" name=""/>
            <p:cNvSpPr/>
            <p:nvPr/>
          </p:nvSpPr>
          <p:spPr>
            <a:xfrm>
              <a:off x="4915080" y="1886040"/>
              <a:ext cx="1026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p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48"/>
            <p:cNvSpPr/>
            <p:nvPr/>
          </p:nvSpPr>
          <p:spPr>
            <a:xfrm flipH="1">
              <a:off x="6111720" y="2288880"/>
              <a:ext cx="4320" cy="66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24520" y="1920600"/>
              <a:ext cx="38052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implicit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licit para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bject on which an instance method is call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uring the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1.draw(g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bject referred to b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implicit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uring the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2.draw(g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bject referred to b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implicit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stance method can refer to that object's 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say that it executes in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ntex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a particular obj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refer to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object it was called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, vers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hanges the location of this Point obj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draw(Graphics g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3, 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drawString("(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)"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ntain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that draws that point at its curr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si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inds of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cess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that lets clients examine object st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ista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istanceFromOrigi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has a non-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ut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that modifies an object's st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ansla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tator method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chang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location to th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values pass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l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chang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location by a giv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client code to use these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tator method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Location(int newX, int new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new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x + d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y + d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alternative solution that utilizes setLo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Location(x + dx, y + d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or method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computes the distance betwee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noth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e formul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tanceFromOrig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the distance betwee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origin, (0, 0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the client code to use these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048120" y="2365200"/>
                <a:ext cx="281916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or method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distance(Point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x = x - other.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y = y -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th.sqrt(dx * dx + dy * d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th.sqrt(x * x + y * 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alternative solution that uses dist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origin = new Po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distance(orig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nt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default, Java doesn't know how to print obj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x =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y = 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 is " + p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 is Point@9e8c3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etter, but cumbersome;           p is (10, 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 is (" + p.x + ", " + p.y + ")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desired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 is " +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 is (10, 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serv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ata in this problem is a set of poi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would be better stored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ould store a city's x/y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ould compare distances betwe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ee whether the bomb hit a given cit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ould know how to draw itse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verall program would be shorter and clean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972480" y="1285920"/>
            <a:ext cx="20192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ells Java how to convert an object into a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7,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1: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he above code is really calling the following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1: " + p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toString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n if it isn't in your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ault: class's nam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's memory address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base 1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@9e8c3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hat returns a String representing this objec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 name, return, and parameters must match exact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turns a String representing this Po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"(" + x + ", " + y + ")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 initialization: constructo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itializ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it takes 3 lines to crea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initialize i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.x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.y = 8;                     // tedio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'd rather specify the fields' initial values at the star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ew Point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3, 8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etter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are able to this with most types of objects in Jav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struc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itializes the state of new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uns when the client uses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keywor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return type is specified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mplicitly "returns" the new object being crea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 class has no constructor, Java gives it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efault construc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th no parameters that sets all fields to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structor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onstructs a Point at the given x/y loc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x + d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y + d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cing a constructor cal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when the following call is ma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1 = new Point(7, 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2635200" y="2671920"/>
            <a:ext cx="6127920" cy="349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Point(int initialX, int initialY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initial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 = initial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translate(int dx, int dy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+= d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 += 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2787480" y="2824200"/>
          <a:ext cx="2945160" cy="547200"/>
        </p:xfrm>
        <a:graphic>
          <a:graphicData uri="http://schemas.openxmlformats.org/drawingml/2006/table">
            <a:tbl>
              <a:tblPr/>
              <a:tblGrid>
                <a:gridCol w="336600"/>
                <a:gridCol w="685800"/>
                <a:gridCol w="1251000"/>
                <a:gridCol w="671760"/>
              </a:tblGrid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2" name=""/>
          <p:cNvGrpSpPr/>
          <p:nvPr/>
        </p:nvGrpSpPr>
        <p:grpSpPr>
          <a:xfrm>
            <a:off x="304920" y="2908440"/>
            <a:ext cx="1980720" cy="444240"/>
            <a:chOff x="304920" y="2908440"/>
            <a:chExt cx="1980720" cy="444240"/>
          </a:xfrm>
        </p:grpSpPr>
        <p:sp>
          <p:nvSpPr>
            <p:cNvPr id="263" name=""/>
            <p:cNvSpPr/>
            <p:nvPr/>
          </p:nvSpPr>
          <p:spPr>
            <a:xfrm>
              <a:off x="304920" y="2908440"/>
              <a:ext cx="1026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p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48"/>
            <p:cNvSpPr/>
            <p:nvPr/>
          </p:nvSpPr>
          <p:spPr>
            <a:xfrm>
              <a:off x="1600200" y="312408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14360" y="2943000"/>
              <a:ext cx="380520" cy="38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 code, version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PointMain3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reate two Point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p1 = new Point(5,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p2 = new Point(4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 each po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1: (" + p1.x + ", " + p1.y + ")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2: (" + p2.x + ", " + p2.y + ")"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ve p2 and then print it aga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.translate(2, 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2: (" + p2.x + ", " + p2.y + ")"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1: (5, 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: (4, 3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: (6, 7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have multiple constructo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one must accept a unique set of parame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rcis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ri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ructor with no parameters that initializes the point to (0, 0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Constructs a new point at (0, 0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Poin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constructor bu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 Re-declaring fields as local variables  ("shadowing"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declares local variables with the same name as the fields, rather than storing values into the fields.  The fields remain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 Accidentally giving the constructor a return typ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oint(int initialX, int initial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actually not a constructor, but a method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s of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ent progr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program that uses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m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client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447840" y="2514600"/>
            <a:ext cx="4114800" cy="2078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Bomb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ient prog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Bomb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(String[]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DrawingPanel(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DrawingPanel(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2400480"/>
            <a:ext cx="3581280" cy="1083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DrawingPanel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DrawingPane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81400" y="2685960"/>
            <a:ext cx="1067040" cy="19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4800" y="3505320"/>
            <a:ext cx="3124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373392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31432" b="0"/>
          <a:stretch/>
        </p:blipFill>
        <p:spPr>
          <a:xfrm>
            <a:off x="5172120" y="4381560"/>
            <a:ext cx="365760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ncapsul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capsul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Hiding implementation details from clients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capsulation forc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bstra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parates external view (behavior) from internal view (stat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tects the integrity of an object's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619440" y="4081320"/>
            <a:ext cx="4991040" cy="2090520"/>
            <a:chOff x="3619440" y="4081320"/>
            <a:chExt cx="4991040" cy="209052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3619440" y="4081320"/>
              <a:ext cx="2666880" cy="20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2"/>
            <a:stretch/>
          </p:blipFill>
          <p:spPr>
            <a:xfrm>
              <a:off x="6134040" y="4090680"/>
              <a:ext cx="2476440" cy="2081160"/>
            </a:xfrm>
            <a:prstGeom prst="rect">
              <a:avLst/>
            </a:prstGeom>
            <a:ln w="9360">
              <a:solidFill>
                <a:srgbClr val="a50021"/>
              </a:solidFill>
              <a:miter/>
            </a:ln>
          </p:spPr>
        </p:pic>
      </p:grpSp>
      <p:pic>
        <p:nvPicPr>
          <p:cNvPr id="279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711360" y="3809880"/>
            <a:ext cx="153648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vate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field that cannot be accessed from outside the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id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code won't compile if it accesses private fiel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ointMain.java:11: x has private access in Po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p1.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private st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 "read-only" access to the x field ("accessor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X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llows clients to change the x field ("mutator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X(int new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ent code will look more like thi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1.getX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1.setX(1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int class, version 4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A Point object represents an (x, y) loca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int getX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int getY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Math.sqrt(x * x + y * y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void setLocation(int newX, int newY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y = new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etLocation(x + dx, y + dy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enefits of encapsul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between object and cl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s object from unwanted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Can't fraudulently increas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cou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's bala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hange the class implementation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ld be rewritten in pola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ordinates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l-GR" sz="2200" spc="-1" strike="noStrike">
                <a:solidFill>
                  <a:srgbClr val="000000"/>
                </a:solidFill>
                <a:latin typeface="Tahoma"/>
              </a:rPr>
              <a:t>θ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with the same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strain objects' state 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aria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Only allo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cou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with non-negative bala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Only allo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with a month from 1-12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45338" t="0" r="0" b="50554"/>
          <a:stretch/>
        </p:blipFill>
        <p:spPr>
          <a:xfrm>
            <a:off x="7315200" y="3414600"/>
            <a:ext cx="1447920" cy="13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hi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Refers to the implicit parameter inside your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(a variable that stores the object on which a method is called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fer to a fiel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 a metho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construc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call anoth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riable shadow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hadow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2 variables with same name in same sco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rmally illegal, except when one variable is a fie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is is leg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Location(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most of the class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 to the 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 to the method's parame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xing shadow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Location(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this.x =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this.y =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id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refer to the data fiel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refer to the parame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another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(0, 0)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(x, y)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x =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y =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redundancy between construc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ly a constructor (not a method) can call another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2971800" y="29718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81280" y="297180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program entity that represent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rogram / module, 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 template for a new type of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is a template for creat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ntity that combines state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-oriented programming (OOP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rograms that perform their behavior as interactions between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Static methods/fiel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-class syst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large software systems consist of many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main class runs and calls methods of the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de reu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lits up the program logic into manageable chun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057400" y="3962520"/>
            <a:ext cx="5029200" cy="2365200"/>
            <a:chOff x="2057400" y="3962520"/>
            <a:chExt cx="5029200" cy="2365200"/>
          </a:xfrm>
        </p:grpSpPr>
        <p:sp>
          <p:nvSpPr>
            <p:cNvPr id="304" name=""/>
            <p:cNvSpPr/>
            <p:nvPr/>
          </p:nvSpPr>
          <p:spPr>
            <a:xfrm>
              <a:off x="3448440" y="3962520"/>
              <a:ext cx="2032920" cy="110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Main Class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urier New"/>
                  <a:ea typeface="Times New Roman"/>
                </a:rPr>
                <a:t>m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57400" y="5500440"/>
              <a:ext cx="2032920" cy="82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Class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053680" y="5500440"/>
              <a:ext cx="2032920" cy="82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Class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3180600" y="5105160"/>
              <a:ext cx="37440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3503160" y="5103360"/>
              <a:ext cx="2671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06960" y="5105160"/>
              <a:ext cx="16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5320440" y="5105160"/>
              <a:ext cx="16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program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sees whether some interesting numbers are prime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rimes1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nums = {1234517, 859501, 53, 142}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nums.length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isPrime(nums[i]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nums[i] + " is prime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he number of factors of the given integer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i is a factor of the numb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rue if the given number is prime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boolean isPrime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countFactors(number) =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progra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prints all prime numbers up to a maximum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rimes2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Max number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max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2; i &lt;= max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isPrime(i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i + "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  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rue if the given number is prime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static boolean isPrime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countFactors(number) =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he number of factors of the given integer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i is a factor of the numb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  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as modu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reusable piece of software, stored as a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module classe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his class is a module that contains useful method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lated to factors and prime numb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Factors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number of factors of the given integ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i is a factor of the numb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rue if the given number is prim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isPrime(int numb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ountFactors(number) =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about modu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dule is a partial program, not a complete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does not hav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You don't run it direct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ules are meant to be utilized by othe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li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factorsOf24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ctors.countFactors(24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a modu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sees whether some interesting numbers are prim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Primes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nums = {1234517, 859501, 53, 142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nums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actors.isPrime(nums[i]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nums[i] + " is prime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prints all prime numbers up to a given maximu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Primes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Max number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x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2; i &lt;= max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actors.isPrime(i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i + "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  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ules in Java librar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Java's built in Math class is a modu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ath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final double PI = 3.14159265358979323846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int abs(int a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 &gt;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-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double toDegrees(double radian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adians * 180 / PI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me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Part of a class, rather than part of an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bject classes can have static method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nd field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copied into each object; shared by all objects of that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609480" y="2666880"/>
            <a:ext cx="7925040" cy="3836160"/>
            <a:chOff x="609480" y="2666880"/>
            <a:chExt cx="7925040" cy="3836160"/>
          </a:xfrm>
        </p:grpSpPr>
        <p:sp>
          <p:nvSpPr>
            <p:cNvPr id="326" name=""/>
            <p:cNvSpPr/>
            <p:nvPr/>
          </p:nvSpPr>
          <p:spPr>
            <a:xfrm>
              <a:off x="2622600" y="2666880"/>
              <a:ext cx="4235400" cy="160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int staticField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String staticField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void someStaticMethodC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void someStaticMethodD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2590920" y="4290840"/>
              <a:ext cx="4190400" cy="519120"/>
              <a:chOff x="2590920" y="4290840"/>
              <a:chExt cx="4190400" cy="519120"/>
            </a:xfrm>
          </p:grpSpPr>
          <p:sp>
            <p:nvSpPr>
              <p:cNvPr id="328" name=""/>
              <p:cNvSpPr/>
              <p:nvPr/>
            </p:nvSpPr>
            <p:spPr>
              <a:xfrm flipH="1">
                <a:off x="2590920" y="4290840"/>
                <a:ext cx="2057040" cy="51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24280" y="4290840"/>
                <a:ext cx="0" cy="51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0240" y="4290840"/>
                <a:ext cx="1981080" cy="51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609480" y="4824360"/>
              <a:ext cx="2438640" cy="167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object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 field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uble fiel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3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int method4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5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52680" y="4824360"/>
              <a:ext cx="2438640" cy="167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object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 field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uble fiel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3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int method4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5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95880" y="4824360"/>
              <a:ext cx="2438640" cy="167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object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 field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uble fiel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3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int method4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5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atic int theAnswer = 4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ic fiel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tored in the class instead of each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"shared" global field that all objects can access and modif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ke a class constant, except that its value can be chang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lueprint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1359000"/>
            <a:ext cx="4876920" cy="217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iPod blue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state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urrent 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battery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behavi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power on/of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station/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oose random s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04920" y="4387680"/>
            <a:ext cx="8076960" cy="2019240"/>
            <a:chOff x="304920" y="4387680"/>
            <a:chExt cx="8076960" cy="2019240"/>
          </a:xfrm>
        </p:grpSpPr>
        <p:sp>
          <p:nvSpPr>
            <p:cNvPr id="109" name=""/>
            <p:cNvSpPr/>
            <p:nvPr/>
          </p:nvSpPr>
          <p:spPr>
            <a:xfrm>
              <a:off x="3049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</a:t>
              </a:r>
              <a:r>
                <a:rPr b="0" lang="en-US" sz="12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1,000,000 Miles</a:t>
              </a: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17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2.5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4387680"/>
              <a:ext cx="213372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Letting You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9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3.41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485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Discipline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24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1.8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286000" y="3564000"/>
            <a:ext cx="4419720" cy="823680"/>
            <a:chOff x="2286000" y="3564000"/>
            <a:chExt cx="4419720" cy="823680"/>
          </a:xfrm>
        </p:grpSpPr>
        <p:grpSp>
          <p:nvGrpSpPr>
            <p:cNvPr id="113" name=""/>
            <p:cNvGrpSpPr/>
            <p:nvPr/>
          </p:nvGrpSpPr>
          <p:grpSpPr>
            <a:xfrm>
              <a:off x="2286000" y="3564000"/>
              <a:ext cx="4191120" cy="823680"/>
              <a:chOff x="2286000" y="3564000"/>
              <a:chExt cx="4191120" cy="823680"/>
            </a:xfrm>
          </p:grpSpPr>
          <p:sp>
            <p:nvSpPr>
              <p:cNvPr id="114" name=""/>
              <p:cNvSpPr/>
              <p:nvPr/>
            </p:nvSpPr>
            <p:spPr>
              <a:xfrm flipH="1">
                <a:off x="2286000" y="3564000"/>
                <a:ext cx="182880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114800" y="3564000"/>
                <a:ext cx="15228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114800" y="3564000"/>
                <a:ext cx="236232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5699160" y="3625920"/>
              <a:ext cx="10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705720" y="1492200"/>
            <a:ext cx="2209680" cy="1684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5751" t="5926" r="10795" b="3210"/>
          <a:stretch/>
        </p:blipFill>
        <p:spPr>
          <a:xfrm>
            <a:off x="22096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51814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rcRect l="5751" t="5926" r="10795" b="3210"/>
          <a:stretch/>
        </p:blipFill>
        <p:spPr>
          <a:xfrm>
            <a:off x="8229600" y="5378400"/>
            <a:ext cx="62388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static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inside the class where the field was declar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other class (if the field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nerally static fields are no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unless they 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shown previously so that each account is automatically given a unique I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the working version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ratGu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ankAccou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BankAccou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tatic count of how many accounts are cre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(only one count shared for the whole cla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static int objectCount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fields (replicated for each objec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i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ankAccoun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Count++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dvance the id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 = objectCount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number to accou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ID() {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turn this account's 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i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e same syntax you've already used for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ic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tored in a class, not in an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hared by all objects of the class, not replica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not have an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mplicit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;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fore, cannot access any particular object's 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Make it so that clients can find out how many tot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 have ever been crea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ankAccou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ankAccount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tatic count of how many accounts are crea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(only one count shared for the whole clas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static int objectCount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lients can call this to find out # accounts crea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int getNumAccount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objectC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ields (replicated for each objec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i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ankAccoun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Count++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dvance the id, 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= objectCoun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give number to accou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ID() {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 this account's 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i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ummary of Java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is used for any of the following in a large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gra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Has a main and perhaps other static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uessingG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irthd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dLib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itterM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es not usually declare any static fields (excep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bject 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Defines a new type of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it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tGu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lares object fields, constructor(s), and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declare static fields or methods, but these are less of a fo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uld be encapsulated (all fields and static field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Utility code implemented as static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distancing between ideas and detai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use objects without knowing how they wor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in an iP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understand its external behavior (buttons, screen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don't understand its inner details, and you don't need t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352320" y="4114800"/>
            <a:ext cx="5334480" cy="2090880"/>
            <a:chOff x="3352320" y="4114800"/>
            <a:chExt cx="5334480" cy="209088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3505320" y="4114800"/>
              <a:ext cx="2666880" cy="209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6019920" y="4124520"/>
              <a:ext cx="2476440" cy="2081160"/>
            </a:xfrm>
            <a:prstGeom prst="rect">
              <a:avLst/>
            </a:prstGeom>
            <a:ln w="9360">
              <a:solidFill>
                <a:srgbClr val="a50021"/>
              </a:solidFill>
              <a:miter/>
            </a:ln>
          </p:spPr>
        </p:pic>
        <p:grpSp>
          <p:nvGrpSpPr>
            <p:cNvPr id="127" name=""/>
            <p:cNvGrpSpPr/>
            <p:nvPr/>
          </p:nvGrpSpPr>
          <p:grpSpPr>
            <a:xfrm>
              <a:off x="3352320" y="4148280"/>
              <a:ext cx="5334480" cy="1905120"/>
              <a:chOff x="3352320" y="4148280"/>
              <a:chExt cx="5334480" cy="1905120"/>
            </a:xfrm>
          </p:grpSpPr>
          <p:sp>
            <p:nvSpPr>
              <p:cNvPr id="128" name=""/>
              <p:cNvSpPr/>
              <p:nvPr/>
            </p:nvSpPr>
            <p:spPr>
              <a:xfrm>
                <a:off x="3429000" y="4148280"/>
                <a:ext cx="5257800" cy="19051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3352320" y="4148280"/>
                <a:ext cx="5334120" cy="19051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0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609480" y="3733920"/>
            <a:ext cx="15368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tas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following slides, we will implemen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as a way of learning about defining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define a type of objects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will contain x/y data call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will contain behavior call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ient program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ll us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20:36:24Z</dcterms:modified>
  <cp:revision>124</cp:revision>
  <dc:subject/>
  <dc:title>CSE 142 Python Slides</dc:title>
</cp:coreProperties>
</file>