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18F7-C213-434F-9986-969F0ECEE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9581-74B0-45BF-B823-0017220B62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93BF-4971-4A5E-AC37-DFD7AD31BD8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A00F-D874-4D2E-8411-6EED08403AE0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32:10Z</dcterms:modified>
  <cp:revision>125</cp:revision>
  <dc:subject/>
  <dc:title>CSE 142 Python Slides</dc:title>
</cp:coreProperties>
</file>