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B2BB-0BA9-4939-97C9-8DEC6890D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74BF-C932-415C-A728-A9D29B316A7A}"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F7AD-435B-4538-B1F6-589F09B0A82E}"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28:10Z</dcterms:modified>
  <cp:revision>123</cp:revision>
  <dc:subject/>
  <dc:title>CSE 142 Python Slides</dc:title>
</cp:coreProperties>
</file>