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30C4-67E0-4C24-A36F-34F6154F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F452-BB75-4291-8E3E-2CC289B8CD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7355-C847-4D85-BB57-67061053006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4:20Z</dcterms:modified>
  <cp:revision>122</cp:revision>
  <dc:subject/>
  <dc:title>CSE 142 Python Slides</dc:title>
</cp:coreProperties>
</file>