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FEE-DBDB-4C26-804F-C30390AC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3E64-D47E-4881-88A8-46325BE43F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996-ADDB-4EFC-A053-25DD29712B4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0:14Z</dcterms:modified>
  <cp:revision>121</cp:revision>
  <dc:subject/>
  <dc:title>CSE 142 Python Slides</dc:title>
</cp:coreProperties>
</file>